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20" y="53312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1108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35584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20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2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35584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20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43080" y="406080"/>
            <a:ext cx="60004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1108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120" y="53312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51108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35584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9720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12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35584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59720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3080" y="406080"/>
            <a:ext cx="60004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1108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0520"/>
            <a:ext cx="6867360" cy="838800"/>
            <a:chOff x="0" y="380520"/>
            <a:chExt cx="6867360" cy="838800"/>
          </a:xfrm>
        </p:grpSpPr>
        <p:sp>
          <p:nvSpPr>
            <p:cNvPr id="1" name=""/>
            <p:cNvSpPr/>
            <p:nvPr/>
          </p:nvSpPr>
          <p:spPr>
            <a:xfrm>
              <a:off x="2160" y="380880"/>
              <a:ext cx="6865200" cy="8384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2697120" y="380160"/>
              <a:ext cx="4163400" cy="29844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99200"/>
              <a:ext cx="4407480" cy="4107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0" y="0"/>
            <a:ext cx="6858000" cy="322200"/>
          </a:xfrm>
          <a:prstGeom prst="rect">
            <a:avLst/>
          </a:prstGeom>
          <a:gradFill rotWithShape="0">
            <a:gsLst>
              <a:gs pos="0">
                <a:srgbClr val="143c28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9360" y="1117440"/>
            <a:ext cx="6850080" cy="211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5193db"/>
              </a:buClr>
              <a:buFont typeface="굴림"/>
              <a:buChar char="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1" marL="990720" indent="-533520">
              <a:spcBef>
                <a:spcPts val="700"/>
              </a:spcBef>
              <a:buClr>
                <a:srgbClr val="322e8a"/>
              </a:buClr>
              <a:buFont typeface="Arial"/>
              <a:buChar char="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2" marL="1371600" indent="-457200">
              <a:spcBef>
                <a:spcPts val="700"/>
              </a:spcBef>
              <a:buClr>
                <a:srgbClr val="102e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3" marL="1752480" indent="-38088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5" marL="2209680" indent="-38088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6" marL="2209680" indent="-38088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0"/>
            <a:ext cx="188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MD솔체"/>
                <a:ea typeface="MD개성체"/>
              </a:rPr>
              <a:t>교과서검정연구기획단</a:t>
            </a:r>
            <a:endParaRPr b="0" lang="en-US" sz="1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960" y="0"/>
            <a:ext cx="6861600" cy="9142560"/>
            <a:chOff x="-3960" y="0"/>
            <a:chExt cx="6861600" cy="9142560"/>
          </a:xfrm>
        </p:grpSpPr>
        <p:sp>
          <p:nvSpPr>
            <p:cNvPr id="46" name=""/>
            <p:cNvSpPr/>
            <p:nvPr/>
          </p:nvSpPr>
          <p:spPr>
            <a:xfrm>
              <a:off x="28800" y="50760"/>
              <a:ext cx="6800400" cy="9042480"/>
            </a:xfrm>
            <a:custGeom>
              <a:avLst/>
              <a:gdLst>
                <a:gd name="textAreaLeft" fmla="*/ 123840 w 6800400"/>
                <a:gd name="textAreaRight" fmla="*/ 6676560 w 6800400"/>
                <a:gd name="textAreaTop" fmla="*/ 123840 h 9042480"/>
                <a:gd name="textAreaBottom" fmla="*/ 8918640 h 9042480"/>
              </a:gdLst>
              <a:ahLst/>
              <a:rect l="textAreaLeft" t="textAreaTop" r="textAreaRight" b="textAreaBottom"/>
              <a:pathLst>
                <a:path w="21600" h="28721">
                  <a:moveTo>
                    <a:pt x="1345" y="0"/>
                  </a:moveTo>
                  <a:arcTo wR="1345" hR="1345" stAng="16200000" swAng="-5400000"/>
                  <a:lnTo>
                    <a:pt x="0" y="27376"/>
                  </a:lnTo>
                  <a:arcTo wR="1345" hR="1345" stAng="10800000" swAng="-5400000"/>
                  <a:lnTo>
                    <a:pt x="20255" y="28721"/>
                  </a:lnTo>
                  <a:arcTo wR="1345" hR="1345" stAng="5400000" swAng="-5400000"/>
                  <a:lnTo>
                    <a:pt x="21600" y="1345"/>
                  </a:lnTo>
                  <a:arcTo wR="1345" hR="1345" stAng="0" swAng="-5400000"/>
                  <a:close/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342720" cy="6094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191000">
              <a:off x="-214560" y="8642160"/>
              <a:ext cx="711360" cy="2880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768800">
              <a:off x="6570720" y="8532360"/>
              <a:ext cx="276120" cy="60696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6381360" y="133200"/>
              <a:ext cx="609480" cy="3427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애기" descr=""/>
          <p:cNvPicPr/>
          <p:nvPr/>
        </p:nvPicPr>
        <p:blipFill>
          <a:blip r:embed="rId2"/>
          <a:stretch/>
        </p:blipFill>
        <p:spPr>
          <a:xfrm>
            <a:off x="228600" y="3759120"/>
            <a:ext cx="6343560" cy="2082960"/>
          </a:xfrm>
          <a:prstGeom prst="rect">
            <a:avLst/>
          </a:prstGeom>
          <a:ln w="0">
            <a:noFill/>
          </a:ln>
        </p:spPr>
      </p:pic>
      <p:pic>
        <p:nvPicPr>
          <p:cNvPr id="54" name="1" descr=""/>
          <p:cNvPicPr/>
          <p:nvPr/>
        </p:nvPicPr>
        <p:blipFill>
          <a:blip r:embed="rId3"/>
          <a:stretch/>
        </p:blipFill>
        <p:spPr>
          <a:xfrm>
            <a:off x="228600" y="1625760"/>
            <a:ext cx="6343560" cy="2031840"/>
          </a:xfrm>
          <a:prstGeom prst="rect">
            <a:avLst/>
          </a:prstGeom>
          <a:ln w="0">
            <a:noFill/>
          </a:ln>
        </p:spPr>
      </p:pic>
      <p:pic>
        <p:nvPicPr>
          <p:cNvPr id="55" name="1" descr=""/>
          <p:cNvPicPr/>
          <p:nvPr/>
        </p:nvPicPr>
        <p:blipFill>
          <a:blip r:embed="rId4"/>
          <a:stretch/>
        </p:blipFill>
        <p:spPr>
          <a:xfrm>
            <a:off x="228600" y="5994360"/>
            <a:ext cx="6343560" cy="101520"/>
          </a:xfrm>
          <a:prstGeom prst="rect">
            <a:avLst/>
          </a:prstGeom>
          <a:ln w="0">
            <a:noFill/>
          </a:ln>
        </p:spPr>
      </p:pic>
      <p:pic>
        <p:nvPicPr>
          <p:cNvPr id="56" name="2" descr=""/>
          <p:cNvPicPr/>
          <p:nvPr/>
        </p:nvPicPr>
        <p:blipFill>
          <a:blip r:embed="rId5"/>
          <a:stretch/>
        </p:blipFill>
        <p:spPr>
          <a:xfrm>
            <a:off x="1854360" y="6705720"/>
            <a:ext cx="3200400" cy="9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533160"/>
            <a:ext cx="65149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HY견고딕"/>
              </a:rPr>
              <a:t>2. </a:t>
            </a:r>
            <a:r>
              <a:rPr b="1" lang="zh-CN" sz="3100" spc="-1" strike="noStrike">
                <a:solidFill>
                  <a:srgbClr val="ffffff"/>
                </a:solidFill>
                <a:latin typeface="HY견고딕"/>
              </a:rPr>
              <a:t>신석기 시대와 농사의 시작</a:t>
            </a:r>
            <a:br>
              <a:rPr sz="3100"/>
            </a:br>
            <a:endParaRPr b="1" lang="en-US" sz="31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295280"/>
            <a:ext cx="6629400" cy="472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ff3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marL="57240" indent="-57240" algn="just"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600200"/>
            <a:ext cx="643752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1d528d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굴림"/>
              </a:rPr>
              <a:t>농경과 목축의 시작</a:t>
            </a:r>
            <a:endParaRPr b="0" lang="en-US" sz="24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1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만 년 전 빙하기의 종료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작고 날쌘 동물들을 사냥하거나 작업의 효율을 높이기 위해 간석기 제작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신석기 시대의 시작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)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농경과 목축의 시작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자연을 이용하여 식량을 생산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신석기 혁명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)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3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지역에 따라 여전히 채집과 사냥을 주로 하거나 유목 생활을 하기도 함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굴림"/>
              </a:rPr>
              <a:t>2. </a:t>
            </a:r>
            <a:r>
              <a:rPr b="1" lang="ko-KR" sz="2400" spc="-1" strike="noStrike">
                <a:solidFill>
                  <a:srgbClr val="1d528d"/>
                </a:solidFill>
                <a:latin typeface="굴림"/>
              </a:rPr>
              <a:t>신석기 시대의 생활</a:t>
            </a:r>
            <a:endParaRPr b="0" lang="en-US" sz="24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농경의 시작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정착 생활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생활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움집 거주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간석기 제작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어로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의복 제작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농기구 제작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돌괭이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돌보습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돌갈판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토기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음식 저장과 조리에 사용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혈연을 바탕으로 한 씨족 사회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평등 사회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304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533160"/>
            <a:ext cx="65149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</a:rPr>
              <a:t>2. </a:t>
            </a:r>
            <a:r>
              <a:rPr b="1" lang="zh-CN" sz="1400" spc="-1" strike="noStrike">
                <a:solidFill>
                  <a:srgbClr val="ffffff"/>
                </a:solidFill>
                <a:latin typeface="HY견고딕"/>
              </a:rPr>
              <a:t>신석기 시대와 농사의 시작</a:t>
            </a:r>
            <a:endParaRPr b="1" lang="en-US" sz="1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295280"/>
            <a:ext cx="6629400" cy="594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ff3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marL="57240" indent="-57240" algn="just"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600200"/>
            <a:ext cx="643752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굴림"/>
              </a:rPr>
              <a:t>3. </a:t>
            </a:r>
            <a:r>
              <a:rPr b="1" lang="ko-KR" sz="2400" spc="-1" strike="noStrike">
                <a:solidFill>
                  <a:srgbClr val="1d528d"/>
                </a:solidFill>
                <a:latin typeface="굴림"/>
              </a:rPr>
              <a:t>만주와 한반도의 신석기 문화</a:t>
            </a:r>
            <a:endParaRPr b="0" lang="en-US" sz="24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한반도의 신석기 시대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기원전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8000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년경 시작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2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거주지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큰 강 유역이나 바닷가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3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도구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간석기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빗살무늬 토기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덧무늬 토기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4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유적지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제주 한경 고산리 유적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강원 양양 오산리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부산 동삼동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서울 암사동 유적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5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농경의 증거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돌괭이와 돌갈판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곡식에 눌린 흔적이 있는 토기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1d528d"/>
                </a:solidFill>
                <a:latin typeface="굴림"/>
              </a:rPr>
              <a:t>4. </a:t>
            </a:r>
            <a:r>
              <a:rPr b="1" lang="ko-KR" sz="2500" spc="-1" strike="noStrike">
                <a:solidFill>
                  <a:srgbClr val="1d528d"/>
                </a:solidFill>
                <a:latin typeface="굴림"/>
              </a:rPr>
              <a:t>신앙과 예술 발달</a:t>
            </a:r>
            <a:endParaRPr b="0" lang="en-US" sz="2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농경과 목축 생활을 하던 신석기인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자연 현상에 관심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애니미즘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해와 달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물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산 등에 영혼이 있다고 믿음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토테미즘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특정 동물을 자기 부족의 시조나 수호신으로 생각함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샤머니즘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무당과 그 주술을 믿음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예술 활동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흙으로 빚은 얼굴 모습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조개껍데기 가면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벽화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304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0:28:04Z</dcterms:created>
  <dc:creator>박상혁</dc:creator>
  <dc:description/>
  <dc:language>en-US</dc:language>
  <cp:lastModifiedBy>chkang</cp:lastModifiedBy>
  <dcterms:modified xsi:type="dcterms:W3CDTF">2012-06-25T09:30:35Z</dcterms:modified>
  <cp:revision>148</cp:revision>
  <dc:subject/>
  <dc:title>2007년도 업무 보고</dc:title>
</cp:coreProperties>
</file>