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120" y="53312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1108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35584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720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12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35584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720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120" y="182844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43080" y="406080"/>
            <a:ext cx="600048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120" y="182844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1108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4120" y="53312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51108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35584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97200" y="18284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412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35584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597200" y="5331240"/>
            <a:ext cx="213444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3080" y="406080"/>
            <a:ext cx="600048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11080" y="53312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2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11080" y="1828440"/>
            <a:ext cx="323496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120" y="5331240"/>
            <a:ext cx="662940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0520"/>
            <a:ext cx="6867360" cy="838800"/>
            <a:chOff x="0" y="380520"/>
            <a:chExt cx="6867360" cy="838800"/>
          </a:xfrm>
        </p:grpSpPr>
        <p:sp>
          <p:nvSpPr>
            <p:cNvPr id="1" name=""/>
            <p:cNvSpPr/>
            <p:nvPr/>
          </p:nvSpPr>
          <p:spPr>
            <a:xfrm>
              <a:off x="2160" y="380880"/>
              <a:ext cx="6865200" cy="8384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2697120" y="380160"/>
              <a:ext cx="4163400" cy="29844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99200"/>
              <a:ext cx="4407480" cy="4107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0" y="0"/>
            <a:ext cx="6858000" cy="322200"/>
          </a:xfrm>
          <a:prstGeom prst="rect">
            <a:avLst/>
          </a:prstGeom>
          <a:gradFill rotWithShape="0">
            <a:gsLst>
              <a:gs pos="0">
                <a:srgbClr val="143c28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9360" y="1117440"/>
            <a:ext cx="6850080" cy="21132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3080" y="406080"/>
            <a:ext cx="6000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4120" y="182844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5193db"/>
              </a:buClr>
              <a:buFont typeface="굴림"/>
              <a:buChar char="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1" marL="990720" indent="-533520">
              <a:spcBef>
                <a:spcPts val="700"/>
              </a:spcBef>
              <a:buClr>
                <a:srgbClr val="322e8a"/>
              </a:buClr>
              <a:buFont typeface="Arial"/>
              <a:buChar char="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2" marL="1371600" indent="-457200">
              <a:spcBef>
                <a:spcPts val="700"/>
              </a:spcBef>
              <a:buClr>
                <a:srgbClr val="102e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3" marL="1752480" indent="-38088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5" marL="2209680" indent="-38088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  <a:p>
            <a:pPr lvl="6" marL="2209680" indent="-38088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93db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5193db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0"/>
            <a:ext cx="188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MD솔체"/>
                <a:ea typeface="MD개성체"/>
              </a:rPr>
              <a:t>교과서검정연구기획단</a:t>
            </a:r>
            <a:endParaRPr b="0" lang="en-US" sz="1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960" y="0"/>
            <a:ext cx="6861600" cy="9142560"/>
            <a:chOff x="-3960" y="0"/>
            <a:chExt cx="6861600" cy="9142560"/>
          </a:xfrm>
        </p:grpSpPr>
        <p:sp>
          <p:nvSpPr>
            <p:cNvPr id="46" name=""/>
            <p:cNvSpPr/>
            <p:nvPr/>
          </p:nvSpPr>
          <p:spPr>
            <a:xfrm>
              <a:off x="28800" y="50760"/>
              <a:ext cx="6800400" cy="9042480"/>
            </a:xfrm>
            <a:custGeom>
              <a:avLst/>
              <a:gdLst>
                <a:gd name="textAreaLeft" fmla="*/ 123840 w 6800400"/>
                <a:gd name="textAreaRight" fmla="*/ 6676560 w 6800400"/>
                <a:gd name="textAreaTop" fmla="*/ 123840 h 9042480"/>
                <a:gd name="textAreaBottom" fmla="*/ 8918640 h 9042480"/>
              </a:gdLst>
              <a:ahLst/>
              <a:rect l="textAreaLeft" t="textAreaTop" r="textAreaRight" b="textAreaBottom"/>
              <a:pathLst>
                <a:path w="21600" h="28721">
                  <a:moveTo>
                    <a:pt x="1345" y="0"/>
                  </a:moveTo>
                  <a:arcTo wR="1345" hR="1345" stAng="16200000" swAng="-5400000"/>
                  <a:lnTo>
                    <a:pt x="0" y="27376"/>
                  </a:lnTo>
                  <a:arcTo wR="1345" hR="1345" stAng="10800000" swAng="-5400000"/>
                  <a:lnTo>
                    <a:pt x="20255" y="28721"/>
                  </a:lnTo>
                  <a:arcTo wR="1345" hR="1345" stAng="5400000" swAng="-5400000"/>
                  <a:lnTo>
                    <a:pt x="21600" y="1345"/>
                  </a:lnTo>
                  <a:arcTo wR="1345" hR="1345" stAng="0" swAng="-5400000"/>
                  <a:close/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342720" cy="60948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6191000">
              <a:off x="-214560" y="8642160"/>
              <a:ext cx="711360" cy="2880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768800">
              <a:off x="6570720" y="8532360"/>
              <a:ext cx="276120" cy="60696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6381360" y="133200"/>
              <a:ext cx="609480" cy="3427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굴림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애기" descr=""/>
          <p:cNvPicPr/>
          <p:nvPr/>
        </p:nvPicPr>
        <p:blipFill>
          <a:blip r:embed="rId2"/>
          <a:stretch/>
        </p:blipFill>
        <p:spPr>
          <a:xfrm>
            <a:off x="228600" y="3759120"/>
            <a:ext cx="6343560" cy="2082960"/>
          </a:xfrm>
          <a:prstGeom prst="rect">
            <a:avLst/>
          </a:prstGeom>
          <a:ln w="0">
            <a:noFill/>
          </a:ln>
        </p:spPr>
      </p:pic>
      <p:pic>
        <p:nvPicPr>
          <p:cNvPr id="54" name="1" descr=""/>
          <p:cNvPicPr/>
          <p:nvPr/>
        </p:nvPicPr>
        <p:blipFill>
          <a:blip r:embed="rId3"/>
          <a:stretch/>
        </p:blipFill>
        <p:spPr>
          <a:xfrm>
            <a:off x="228600" y="1625760"/>
            <a:ext cx="6343560" cy="2031840"/>
          </a:xfrm>
          <a:prstGeom prst="rect">
            <a:avLst/>
          </a:prstGeom>
          <a:ln w="0">
            <a:noFill/>
          </a:ln>
        </p:spPr>
      </p:pic>
      <p:pic>
        <p:nvPicPr>
          <p:cNvPr id="55" name="1" descr=""/>
          <p:cNvPicPr/>
          <p:nvPr/>
        </p:nvPicPr>
        <p:blipFill>
          <a:blip r:embed="rId4"/>
          <a:stretch/>
        </p:blipFill>
        <p:spPr>
          <a:xfrm>
            <a:off x="228600" y="5994360"/>
            <a:ext cx="6343560" cy="101520"/>
          </a:xfrm>
          <a:prstGeom prst="rect">
            <a:avLst/>
          </a:prstGeom>
          <a:ln w="0">
            <a:noFill/>
          </a:ln>
        </p:spPr>
      </p:pic>
      <p:pic>
        <p:nvPicPr>
          <p:cNvPr id="56" name="2" descr=""/>
          <p:cNvPicPr/>
          <p:nvPr/>
        </p:nvPicPr>
        <p:blipFill>
          <a:blip r:embed="rId5"/>
          <a:stretch/>
        </p:blipFill>
        <p:spPr>
          <a:xfrm>
            <a:off x="1854360" y="6705720"/>
            <a:ext cx="3200400" cy="9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533160"/>
            <a:ext cx="65149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HY견고딕"/>
              </a:rPr>
              <a:t>1. </a:t>
            </a:r>
            <a:r>
              <a:rPr b="1" lang="zh-CN" sz="3100" spc="-1" strike="noStrike">
                <a:solidFill>
                  <a:srgbClr val="ffffff"/>
                </a:solidFill>
                <a:latin typeface="HY견고딕"/>
              </a:rPr>
              <a:t>인류의 출현과 구석기 시대</a:t>
            </a:r>
            <a:endParaRPr b="1" lang="en-US" sz="31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1295280"/>
            <a:ext cx="6629400" cy="304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ff3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marL="57240" indent="-57240" algn="just"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600200"/>
            <a:ext cx="64375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1d528d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굴림"/>
              </a:rPr>
              <a:t>인류의 탄생</a:t>
            </a:r>
            <a:endParaRPr b="0" lang="en-US" sz="24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1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오스트랄로피테쿠스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최초의 인류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2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호모 에렉투스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불을 이용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간단한 도구 사용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3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호모 사피엔스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매장 풍습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4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호모 사피엔스 사피엔스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오늘날 인류의 직접적 조상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3049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533160"/>
            <a:ext cx="65149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</a:rPr>
              <a:t>1. </a:t>
            </a:r>
            <a:r>
              <a:rPr b="1" lang="zh-CN" sz="1400" spc="-1" strike="noStrike">
                <a:solidFill>
                  <a:srgbClr val="ffffff"/>
                </a:solidFill>
                <a:latin typeface="HY견고딕"/>
              </a:rPr>
              <a:t>인류의 출현과 구석기 시대</a:t>
            </a:r>
            <a:endParaRPr b="1" lang="en-US" sz="1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1295280"/>
            <a:ext cx="6629400" cy="403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ff3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marL="57240" indent="-57240" algn="just"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600200"/>
            <a:ext cx="643752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1d528d"/>
                </a:solidFill>
                <a:latin typeface="굴림"/>
              </a:rPr>
              <a:t>2. </a:t>
            </a:r>
            <a:r>
              <a:rPr b="1" lang="ko-KR" sz="2400" spc="-1" strike="noStrike">
                <a:solidFill>
                  <a:srgbClr val="1d528d"/>
                </a:solidFill>
                <a:latin typeface="굴림"/>
              </a:rPr>
              <a:t>구석기 시대</a:t>
            </a:r>
            <a:endParaRPr b="0" lang="en-US" sz="24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buClr>
                <a:srgbClr val="1d528d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도구의 사용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나무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동물의 뼈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돌을 깨뜨려 만든 뗀석기 사용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ㄱ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.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초기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하나의 뗀석기를 여러 가지 용도로 사용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ㄴ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.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후기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쓰임새에 맞는 여러 가지 형태의 뗀석기 개발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2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이동 생활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채집과 사냥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물고기 잡이를 통해 식량 확보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3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거주지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동굴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,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강가의 막집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4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예술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동굴벽 그림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(5)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유적지 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: 70</a:t>
            </a:r>
            <a:r>
              <a:rPr b="1" lang="ko-KR" sz="1500" spc="-1" strike="noStrike">
                <a:solidFill>
                  <a:srgbClr val="1d528d"/>
                </a:solidFill>
                <a:latin typeface="굴림"/>
              </a:rPr>
              <a:t>만 년 전부터 한반도와 만주 일대에 거주</a:t>
            </a:r>
            <a:endParaRPr b="0" lang="en-US" sz="15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3049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0:28:04Z</dcterms:created>
  <dc:creator>박상혁</dc:creator>
  <dc:description/>
  <dc:language>en-US</dc:language>
  <cp:lastModifiedBy>chkang</cp:lastModifiedBy>
  <dcterms:modified xsi:type="dcterms:W3CDTF">2012-06-25T09:23:07Z</dcterms:modified>
  <cp:revision>147</cp:revision>
  <dc:subject/>
  <dc:title>2007년도 업무 보고</dc:title>
</cp:coreProperties>
</file>